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EBC4-AF2F-4D3C-BFDF-F449FF9A3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88AF-5CC5-4C2E-B46B-26273E196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582D-D214-4DF5-A8DA-51E68F462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7139-B53B-45F3-A657-A9AECD2B6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2C9A-1476-4E19-ACF0-7C7A44DDC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BB93-0EFF-4F75-8778-6AD2EA71C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A86A-AEBF-4378-A08F-3C2D3D0F9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F3CA-2733-4A54-9AD3-9E66D838F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9FB8-F1C6-4B1B-90AD-56C29E9B4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FF76-DA57-4345-9B55-CD694BFE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D0CC-F1A5-45B1-951B-65021161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92F5-1489-458B-AFF9-FBA3CF1A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23C5C-2FAD-4548-A5DA-3FC7A85C6E40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pl.wikipedia.org/wiki/Polimery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az 1" descr="http://www.plastchem.com.pl/pics/plastchem.jpg"/>
          <p:cNvPicPr/>
          <p:nvPr/>
        </p:nvPicPr>
        <p:blipFill>
          <a:blip r:embed="rId1"/>
          <a:stretch/>
        </p:blipFill>
        <p:spPr>
          <a:xfrm>
            <a:off x="5651640" y="1844640"/>
            <a:ext cx="3328920" cy="259704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98280" y="3241800"/>
            <a:ext cx="5247000" cy="3616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211280" y="260280"/>
            <a:ext cx="47372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cc3300"/>
                </a:solidFill>
                <a:latin typeface="Arial"/>
              </a:rPr>
              <a:t>TWORZYWA SZTUCZ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3"/>
          <a:stretch/>
        </p:blipFill>
        <p:spPr>
          <a:xfrm>
            <a:off x="119160" y="333360"/>
            <a:ext cx="51292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7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c3300"/>
                </a:solidFill>
                <a:latin typeface="Arial"/>
              </a:rPr>
              <a:t>Zastosowanie tworzyw sztucznych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PE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- polietylen używany jest do produkcji folii i butel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PS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-polistyren służy do wytwarzania np. opakowań, zabawek   i styropian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"/>
          <p:cNvPicPr/>
          <p:nvPr/>
        </p:nvPicPr>
        <p:blipFill>
          <a:blip r:embed="rId1"/>
          <a:stretch/>
        </p:blipFill>
        <p:spPr>
          <a:xfrm>
            <a:off x="1332000" y="3213000"/>
            <a:ext cx="2343240" cy="3124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"/>
          <p:cNvPicPr/>
          <p:nvPr/>
        </p:nvPicPr>
        <p:blipFill>
          <a:blip r:embed="rId2"/>
          <a:stretch/>
        </p:blipFill>
        <p:spPr>
          <a:xfrm>
            <a:off x="4859280" y="3716280"/>
            <a:ext cx="312408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c3300"/>
                </a:solidFill>
                <a:latin typeface="Arial"/>
              </a:rPr>
              <a:t>Do najczęściej spotykanych tworzyw sztucznych zaliczam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70c0"/>
                </a:solidFill>
                <a:latin typeface="Arial"/>
              </a:rPr>
              <a:t>Poliety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70c0"/>
                </a:solidFill>
                <a:latin typeface="Arial"/>
              </a:rPr>
              <a:t>Polipropy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70c0"/>
                </a:solidFill>
                <a:latin typeface="Arial"/>
              </a:rPr>
              <a:t>Polisty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70c0"/>
                </a:solidFill>
                <a:latin typeface="Arial"/>
              </a:rPr>
              <a:t>Polichlorek winy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70c0"/>
                </a:solidFill>
                <a:latin typeface="Arial"/>
              </a:rPr>
              <a:t>Nyl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70c0"/>
                </a:solidFill>
                <a:latin typeface="Arial"/>
              </a:rPr>
              <a:t>Tefl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c3300"/>
                </a:solidFill>
                <a:latin typeface="Arial"/>
              </a:rPr>
              <a:t>Zastosowanie tworzyw sztuczny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PCW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- polichlorek winylu wykorzystywany jest do produkcji płytek podłogowych, ryni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PMM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- polimetakrylan metylu stosowany do produkcji rur, płyt        i osłon świateł samochodowy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1"/>
          <a:stretch/>
        </p:blipFill>
        <p:spPr>
          <a:xfrm>
            <a:off x="1692360" y="4221000"/>
            <a:ext cx="1752480" cy="2343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"/>
          <p:cNvPicPr/>
          <p:nvPr/>
        </p:nvPicPr>
        <p:blipFill>
          <a:blip r:embed="rId2"/>
          <a:stretch/>
        </p:blipFill>
        <p:spPr>
          <a:xfrm>
            <a:off x="5508720" y="4221000"/>
            <a:ext cx="175248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c3300"/>
                </a:solidFill>
                <a:latin typeface="Arial"/>
              </a:rPr>
              <a:t>Zastosowanie tworzyw sztuczny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akelit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- używany jest do produkcji gniazd elektryczny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Żywice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epoksydowe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- służą do wytwarzania klejó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971640" y="3500280"/>
            <a:ext cx="3124080" cy="1800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"/>
          <p:cNvPicPr/>
          <p:nvPr/>
        </p:nvPicPr>
        <p:blipFill>
          <a:blip r:embed="rId2"/>
          <a:stretch/>
        </p:blipFill>
        <p:spPr>
          <a:xfrm>
            <a:off x="5076720" y="3141720"/>
            <a:ext cx="333396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Ciekawostka               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4400" spc="-1" strike="noStrike">
                <a:solidFill>
                  <a:srgbClr val="cc3300"/>
                </a:solidFill>
                <a:latin typeface="Arial"/>
              </a:rPr>
              <a:t>Tefl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24000" y="1197000"/>
            <a:ext cx="882000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Cechuje go wyjątkowa odporność chemiczna i cieplna, doskonałe właściwości ślizgowe, dobre właściwości mechaniczne i dielektryczne, niepalność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Zastosowanie: do wyrobu urządzeń i aparatury chemicznej, w elektronice i elektrotechnice, w przemyśle maszynowym, samochodowym, papierni-czym, włókienniczy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rostokąt 5"/>
          <p:cNvSpPr/>
          <p:nvPr/>
        </p:nvSpPr>
        <p:spPr>
          <a:xfrm>
            <a:off x="992160" y="459108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c3300"/>
                </a:solidFill>
                <a:latin typeface="Arial"/>
              </a:rPr>
              <a:t>Przykłady wyrobów z teflonu: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82" name="Symbol zastępczy zawartości 3" descr="images (8).jpg"/>
          <p:cNvPicPr/>
          <p:nvPr/>
        </p:nvPicPr>
        <p:blipFill>
          <a:blip r:embed="rId1"/>
          <a:stretch/>
        </p:blipFill>
        <p:spPr>
          <a:xfrm>
            <a:off x="1401840" y="4998960"/>
            <a:ext cx="1585800" cy="1584360"/>
          </a:xfrm>
          <a:prstGeom prst="rect">
            <a:avLst/>
          </a:prstGeom>
          <a:ln w="0">
            <a:noFill/>
          </a:ln>
        </p:spPr>
      </p:pic>
      <p:pic>
        <p:nvPicPr>
          <p:cNvPr id="83" name="Obraz 7" descr="pobrane (2).jpg"/>
          <p:cNvPicPr/>
          <p:nvPr/>
        </p:nvPicPr>
        <p:blipFill>
          <a:blip r:embed="rId2"/>
          <a:stretch/>
        </p:blipFill>
        <p:spPr>
          <a:xfrm>
            <a:off x="5742000" y="4151160"/>
            <a:ext cx="3084480" cy="2084400"/>
          </a:xfrm>
          <a:prstGeom prst="rect">
            <a:avLst/>
          </a:prstGeom>
          <a:ln w="0">
            <a:noFill/>
          </a:ln>
        </p:spPr>
      </p:pic>
      <p:pic>
        <p:nvPicPr>
          <p:cNvPr id="84" name="Obraz 8" descr="images (9).jpg"/>
          <p:cNvPicPr/>
          <p:nvPr/>
        </p:nvPicPr>
        <p:blipFill>
          <a:blip r:embed="rId3"/>
          <a:stretch/>
        </p:blipFill>
        <p:spPr>
          <a:xfrm>
            <a:off x="3328920" y="5052960"/>
            <a:ext cx="225432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c3300"/>
                </a:solidFill>
                <a:latin typeface="Arial"/>
              </a:rPr>
              <a:t>Recykling tworzyw sztuczny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worzywa sztuczne są wartościowym materiałem, który można odzyskać w różnych procesach recyklingu, czyli ponownego przetwarzania zużytych tworzyw sztuczny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Recykling pozwala odzyskać surowiec polimerowy i wytworzyć np. bluzy polarowe z przerobionych butelek PE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przez przerobienie odpadów na paliwo alternatywne można odzyskać także energię, ponieważ tworzywa sztuczne mają wartość energetyczną porównywalną z węglem kamienny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c3300"/>
                </a:solidFill>
                <a:latin typeface="Arial"/>
              </a:rPr>
              <a:t>Recykling tworzyw sztuczny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Recykling i odzysk zużytych wyrobów z tworzyw sztucznych jest niezbędny do ochrony naszego środowiska naturalnego, ponieważ tworzywa nie ulegają degradacji (czyli rozkładowi). </a:t>
            </a:r>
            <a:r>
              <a:rPr b="0" lang="pl-PL" sz="3200" spc="-1" strike="noStrike">
                <a:solidFill>
                  <a:srgbClr val="cc3300"/>
                </a:solidFill>
                <a:latin typeface="Arial"/>
              </a:rPr>
              <a:t>Dlatego sortujmy je i  przeznaczajmy do recyklingu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"/>
          <p:cNvPicPr/>
          <p:nvPr/>
        </p:nvPicPr>
        <p:blipFill>
          <a:blip r:embed="rId1"/>
          <a:stretch/>
        </p:blipFill>
        <p:spPr>
          <a:xfrm>
            <a:off x="2556000" y="4724280"/>
            <a:ext cx="1733400" cy="1828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"/>
          <p:cNvPicPr/>
          <p:nvPr/>
        </p:nvPicPr>
        <p:blipFill>
          <a:blip r:embed="rId2"/>
          <a:stretch/>
        </p:blipFill>
        <p:spPr>
          <a:xfrm>
            <a:off x="4716360" y="4941720"/>
            <a:ext cx="19242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907640" y="1484280"/>
            <a:ext cx="518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8000" spc="-1" strike="noStrike">
                <a:solidFill>
                  <a:srgbClr val="cc3300"/>
                </a:solidFill>
                <a:latin typeface="Arial"/>
              </a:rPr>
              <a:t>Dziękuję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i="1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Ogólna charakterystyka tworzyw  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sztuczny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2. Proces wytwarz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3. Rodzaje tworzyw sztucznyc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4. Zastosowanie tworzyw sztuczny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5. Recykl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ytuł 1"/>
          <p:cNvSpPr/>
          <p:nvPr/>
        </p:nvSpPr>
        <p:spPr>
          <a:xfrm>
            <a:off x="457200" y="2541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cc3300"/>
                </a:solidFill>
                <a:latin typeface="Arial"/>
              </a:rPr>
              <a:t>Co to są tworzywa sztuczne?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c3300"/>
                </a:solidFill>
                <a:latin typeface="Arial"/>
              </a:rPr>
              <a:t>Ogólna charakterystyka tworzyw sztuczny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Tworzywa sztuczne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to materiały składające się z </a:t>
            </a:r>
            <a:r>
              <a:rPr b="0" lang="pl-P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olimerów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syntetycznych lub naturalnych oraz dodatków nadających im odpowiednie właściwośc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Tworzywa sztuczne spotykamy na każdym kroku, zastępują one wiele materiałów naturalnych i są powszechnie stosowane. Dzięki dużej plastyczności można formować z nich różne przedmio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cc3300"/>
                </a:solidFill>
                <a:latin typeface="Arial"/>
              </a:rPr>
              <a:t>Proces wytwarza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Do produkcji tworzyw sztucznych wykorzystuje się głównie ropę naftową i węgiel kamienn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Surowce po wydobyciu transportowane są do zakładów wytwórczych, gdzie produkuje się z nich tworzywa sztucz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5076720" y="4540320"/>
            <a:ext cx="3008520" cy="20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cc3300"/>
                </a:solidFill>
                <a:latin typeface="Arial"/>
              </a:rPr>
              <a:t>Podział tworzyw sztuczny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5075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c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c000"/>
                </a:solidFill>
                <a:latin typeface="Arial"/>
              </a:rPr>
              <a:t>Ze względu na pochodzenie podstawowego skład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worzywa sztuczne pochodzenia naturalne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yntetyczne tworzywa sztucz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c000"/>
                </a:solidFill>
                <a:latin typeface="Arial"/>
              </a:rPr>
              <a:t>Ze względu na fizykochemiczne właściwości przetwórc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worzywa termoplastycz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worzywa reaktyw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c000"/>
                </a:solidFill>
                <a:latin typeface="Arial"/>
              </a:rPr>
              <a:t>Ze względu na zastosow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onstrukcyj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elastoplastycz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orow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owłokotwórc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dhezyj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łóknotwórc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pecjal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1599840"/>
            <a:ext cx="85075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ymbol zastępczy zawartości 2"/>
          <p:cNvSpPr/>
          <p:nvPr/>
        </p:nvSpPr>
        <p:spPr>
          <a:xfrm>
            <a:off x="184320" y="349200"/>
            <a:ext cx="871344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c000"/>
                </a:solidFill>
                <a:latin typeface="Arial"/>
              </a:rPr>
              <a:t>Ze względu na właściwości fizykochemiczne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c000"/>
                </a:solidFill>
                <a:latin typeface="Arial"/>
              </a:rPr>
              <a:t>plastomery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-  polimery, które pod wpływem naprężeń wykazują bardzo małe odkształcenia (mniejsze niż 1%). Do plastomerów zalicza się termoplasty i duroplasty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c000"/>
                </a:solidFill>
                <a:latin typeface="Arial"/>
              </a:rPr>
              <a:t>elastomery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- tworzywa, które przy małych naprężeniach wykazują duże odkształcenie (do 1000%), można je rozciągać i ściskać, w wyniku czego zmieniają znacznie swój kształt, ale po odjęciu siły wracają do poprzednich kształtów. Elastomery zastąpiły prawie całkowicie kauczuk naturalny, ale znalazły też szereg nowych zastosowań, niedostępnych dla zwykłego kauczuku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c000"/>
                </a:solidFill>
                <a:latin typeface="Arial"/>
              </a:rPr>
              <a:t>Ze względu na dodatki, które występują w tworzywie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apełniacze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lastyfikatory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tabilizatory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ystatyki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barwniki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odatki przeciwścierne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cc3300"/>
                </a:solidFill>
                <a:latin typeface="Arial"/>
              </a:rPr>
              <a:t>Rodzaje tworzyw sztuczny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Termoplastyczne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- sprężyste, nieodporne na ciepło - pod wpływem temperatury dają się formować na now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Należą do ni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E- poliety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S- polistyr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CW- polichlorek winy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MM- polimetakry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cc3300"/>
                </a:solidFill>
                <a:latin typeface="Arial"/>
              </a:rPr>
              <a:t>Rodzaje tworzyw sztuczny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Termoutwardzalne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- utwardzane poprzez działanie wysokiej temperatury, sztywne, twarde, odporne na ciepło, dają się formować tylko raz, np. bakel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Chemoutwardzalne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- utwardzane poprzez działanie związków chemicznyc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np. żywice epoksydo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c3300"/>
                </a:solidFill>
                <a:latin typeface="Arial"/>
              </a:rPr>
              <a:t>Zastosowanie tworzyw sztuczny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176560"/>
            <a:ext cx="822960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Kolorowe i lekkie tworzywa sztuczne spotykamy na  każdym kroku. Zastępują one wiele materiałów naturalnyc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Mają one zastosowanie praktycznie wszędzie, w wielu dziedzinach gospodarki i w życiu codziennym każdego z na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8T17:47:04Z</dcterms:created>
  <dc:creator>Dorota</dc:creator>
  <dc:description/>
  <dc:language>en-US</dc:language>
  <cp:lastModifiedBy>Dorota</cp:lastModifiedBy>
  <dcterms:modified xsi:type="dcterms:W3CDTF">2013-08-13T16:39:29Z</dcterms:modified>
  <cp:revision>26</cp:revision>
  <dc:subject/>
  <dc:title>TWORZYWA SZTUCZNE</dc:title>
</cp:coreProperties>
</file>